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C00-D8C1-4392-A52F-8B0DD304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0B5-5BB4-4A02-BBBD-44B67B4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99ED5-7DE4-4338-9E45-0ED7D5C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5CE94-24F9-41E8-A156-D59D456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D58B-F713-47B6-9B77-5F6F5AB4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63485-6C5C-48C8-B8E6-14DCDE4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D70B1-FD72-400D-AAF1-9C54447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46BCE-ACBE-48EF-BBDE-3481363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FF2F1-9597-41BE-AACD-7CF35141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84E5B-CD7C-4933-9B0B-76225EF5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40A6-5E1C-4871-AA68-6470F53F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68FE-7287-4B5B-94AA-69A51652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F1B-A82D-4DAD-8B39-83D2EEB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19EEB-3802-433C-A46D-9BEDBE73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D1C1-9964-4D7E-A7B1-3E050BEB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AE5C6-6BB4-40DF-B313-920CF04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C12B7-793B-4495-93AB-6C701B4F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99C6D-68D4-4682-B428-445371A2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5A87-1AD5-471C-8933-F2FB2D8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B7917-9EFC-4FA1-85FA-A776F8C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97988-754C-477C-8906-379E451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464C2-A358-4D63-B14F-8663AD8E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03D1E-CB92-4CBF-A556-6DCF2DF1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F6C-ABA0-42AC-9962-BE1E4084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8F006-B383-4444-81E9-69F2E107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BA761-59E8-4A8E-A8AF-131BBDA1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63B3E-C7EF-4E11-9EBB-85E2FF2F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042FA-BD53-4E8F-8C0D-1C2DE7B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F4DC5-8A69-4286-9750-4331FD3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52485-0F7B-4050-9715-A889DE8A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EB645-25FB-487F-825F-AFA57B9D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899E-BDEF-4CD6-9B62-C00914C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4A429-97F4-4077-B2AA-1B08789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5992-4475-4628-88BA-1F09C0F2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6EB-5CC1-4734-A547-2448202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1FE63-4710-405C-954C-18F039BB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5851-CA2A-46C5-B038-A71D457A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9D66D-D379-4BC6-9F1C-EE011BDB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98ADF-44C5-4ACD-A144-19E12562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5CFB-9ED0-47B6-977D-B983144E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3238B-E804-4B57-8C15-C2E19CA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6FB77-B8EA-4600-B3B5-1E26EFA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1380-1754-4C32-9D35-7699B3F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AA33-8215-4573-A7FF-418B6470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8C60D-6CF1-4DCD-BAE8-641FBFF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9889-314F-4CD7-90A2-EACA296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A46B4-3FA0-42C6-B6A7-813B080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BC072-BA59-42FB-BA15-4A04DEC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47A1F-7FF8-4824-BF0E-D6C400C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BE43B-FB29-4F13-9918-B200B698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640D3-CD09-4E1A-B02E-6EA14EB8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CACEB-9435-4124-B8F2-D6CE7107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AA6EE-8006-4F79-B71C-6B6D99A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2F8C6-912C-44A0-AD66-ECA1CC0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DEE99-9CCA-4BA7-9430-EC60C60E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0524C-8E6F-443B-B3CE-C8BECB1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E3CF-6197-4445-9711-7307E31B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4E5C6-C633-41C5-9F4C-0A9121B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BAD93-6A08-497E-BA8A-AF8CC5C4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CBF73-3E30-4E4C-AC9D-812B62A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4C047-32AF-44F0-B384-5AEAF3C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3669F-F054-45E1-AC43-ABE15A7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6D06B-A061-4F10-80F7-9AC24F32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2B2D6-F487-42B1-9F75-D5E19E2E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8157C-A72A-4BD3-B104-AFE93EE0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E8040-C881-4894-9355-2C43DF7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AFA59-978F-4D37-AD44-9D5951E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900E-5251-4843-A02A-92AC36D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21409-68F0-470E-8189-0DCDFBF4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32265-4BEA-4121-BADA-40FF3825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692B9-F080-4869-BF4B-E1D7258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A9ECD-AA63-451A-96F4-A73623A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FD7A1-2C81-4043-9082-4538679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0822B-32E7-453E-8AF2-CB892125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9141B-0BB2-4F4D-A17B-08A5B3C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25796-544B-469A-B158-34DB64C0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2DE98-CAE5-4ADA-9816-92D8041A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54D0F-694D-4683-A7E6-BA2F26A7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D8D6-2485-4278-BD20-2B1C65D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F268F-20EA-4BD7-ADA2-94B14B7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896D6-61FD-4743-96B9-ABAD9DB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A0F09-77FB-4B47-BAD8-3787C5DE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DE3B0-032C-4DC2-AFCD-8FE19975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BCAE9-BF29-4372-A436-ACAA20D6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A56A3-345F-4F5C-A9F6-56A77A5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4BE19-9683-4A5A-A1E2-0AEB4AB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E8714-4A50-4237-A5E9-3244D1E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7FA40-35BD-40EC-B14C-E2B53BD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A52DE-25E2-4786-A799-70656AAE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4D0-EF40-45E4-AF33-9FAED84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C89ED-FA44-46F3-9557-B7AEC5D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A2295-EC72-4BFB-96A5-53F476F5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5D6EF-F5B9-4924-B46E-8DBE621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074D9-140A-4260-ADBC-45FE7FE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55EC4-B10C-4D8D-9CE7-45127A8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6045D-9ACC-4DC4-B822-5BE01BE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C1E4F-0F74-4A18-A224-81F967C6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A7793-BAF7-4B55-9AEA-85588F6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C24E8-4F70-40CA-A5FE-10B4687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77F0D-18ED-458F-AC2C-D1F2ED5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EB9-6EC1-4DEA-8096-D439CE1A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75D22-BBA4-463B-8990-69B6BEA9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B39EE-9000-4708-A0F2-BD7D7C18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BB572-87EA-449B-BFFE-460FCCE8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5169E-7AF2-4F5C-8A57-AB046A53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82EF7-CDB3-4F9D-A7AB-D994EC1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B038A-C12C-4B3B-9465-8CE6438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A3BCA-A043-4FD3-B352-C1EB111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62020-DCFC-4250-A3E8-0BE3F7C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0B402-2EEA-415D-A8B8-DDA03BF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D8FAD-1E88-43C0-9097-292F4F5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8CD-0E9D-4282-BBD9-CE9A69E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A9BD-C89C-4A69-BB8A-0903D9E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6BA77-1419-4F33-BABA-0931FDC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CCF5E-0F32-4794-94FA-9B941B8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25D60-5459-4386-A0F8-0C56119F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45B9E-D159-48E2-8886-9F06E844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39F6D-7FDF-45AE-9646-708B511B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67A76-CD35-4AF7-8C5C-9AE50F17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43FA5-0180-47D7-B4CD-B179A3B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C8B91-526A-4A48-A913-7E7A20A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00DE2-ED87-433D-950C-8EB3CAF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E47D0-F728-4943-B2FA-16C01BA3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B815-003B-4DA1-A946-3FF6950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68DE2-2686-4FD7-BB0C-B1D804F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50057-D61E-47AF-A6AA-12E23F7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3219B-48D1-4225-BBC3-EF8E1A8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FFB0B-7004-4F9D-A2FC-0501B67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C8629C-1DAC-4EF9-A79A-79FE904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1D56C-C087-4EC1-B279-C99CAC35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9080A-FDC1-4AE6-A82E-F8978D54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44BCB-863F-404F-9C76-1F1CE90C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67AAA-08E7-4FD8-82D5-27C9634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85A32-E40E-4688-AE51-2432E9F3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C433-9F28-4391-98D2-4301ED6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39904-D9DE-4BDD-B35D-57AAC7B5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FA2AA-2536-4C56-BE6D-FF788010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0EBA8-C1AF-4114-B960-5696655A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E1187-FC4D-4BBC-96DE-4F1D957D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1C50A-B12B-484F-965C-F4E7F9DB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08B4D-2337-40DF-B920-2A5821C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E6747-6CAD-4856-A9E3-7ADC475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AA0B2-D30C-4CDA-B97E-59096BA4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A9614-F7B2-48ED-95EB-B6D2902A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32660-62F2-4350-97B7-AF858D8F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A848-0676-46DE-A928-A58FF96C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46293-EED4-45E5-A81D-534391E0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FC5B3-6F0F-415B-94C8-297936B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5B3BA-920B-437C-849D-DD49DB5A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E7AAF-EABE-4472-BE4D-DA503BE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5C844-DED0-439F-A43E-E2622D1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BF908-E6B0-412B-A621-16202AB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98047-80C3-48A1-A1AF-7043CDD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40E7E-9340-4F06-985C-5D0F9ED9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7DF861-8CAE-4B84-B294-5E4215AA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50E55-F83B-442E-B578-B5A5F55E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29F8-35C9-4AE0-8DF6-A88B81C0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173A6-EDDD-46EF-8B21-BB747BC6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3F528-6BE6-4F58-87FF-65F0F9E2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4D163-78C1-405A-A6E2-108B32BD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1FFD9-9826-44CD-8735-1F305023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53928-453C-4CCC-A990-A5257FEB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9E0BF-89E4-4933-A78B-BF20D6F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A846F-B894-4364-95D1-EB4350C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48BC6-AD67-4D13-B107-36DC7BA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477DA-AA61-42F8-A07C-4CA4C1D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31658-4827-4A42-9228-47B6542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A7D2-9023-4131-A950-F59A3B0D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4F7C3-77CD-41CE-9B50-8886769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36593-8F6F-4D8B-9545-252836EA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71947-55BC-49AE-A656-2627E935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A874A-569C-440E-B599-0E43A052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C2D44-2ACA-413F-8EB0-A3B6D31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2C9914-F2F6-4319-9A89-F11536F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C4A69-B4E5-457A-A0CA-A5B9A18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52DCF-0EDE-45ED-8F01-90E8ED7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88BE6-B937-4C46-A522-081666D0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F3349-4E6F-475D-BA6C-48CBA0C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5B6F-4C91-43BB-906B-FBB067EE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59CAC1-8602-45D8-A1DB-1B99C5F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27BBD7-447D-41C4-ADB4-34913F6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2EDB9-E272-4519-9C58-EE38EF4D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C3D404-0E05-4842-8280-CBE819AB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D24AB-C336-4500-8546-DEC4FC7E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9E7F-FE73-4B32-B47B-34D47DF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766B-E127-4E32-9DB0-DF031EF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C583-E105-4C5C-8A35-65FF1DB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87C-C8BC-4777-83F8-B952630B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A906-0284-4230-B231-AD314B6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D528-71D1-4BCA-B47C-78429F9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073D-F05B-4075-BC2E-059FDEE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A361-FE84-4904-B84A-3EDE9F3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492A-F5EB-43D1-A018-206D9B5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666E-5A18-4D07-96D1-1407972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EA81-FCDB-4337-942D-A32CB256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8E8F-4429-4802-8728-19D8C99C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26E2-C602-4E92-A893-B1DB37B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B08B-690D-479B-9D53-CDEBB427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D6D-F184-47B0-9A77-8F70F6B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DC5D-7C1A-4BBB-8DE2-9F8BF28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B9E1-227B-4843-9FB4-E1DEA1A9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C182-F62E-4376-9FD3-69B903E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2698-FAD9-48CE-8DB7-E239861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583A-E7C8-4F32-9BD5-1BDF93F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3C88C-1861-4290-8FC5-184F24A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85277-E05A-433B-9095-50768A5B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7FC9-7EC9-4F55-AC5E-3C3846FD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0CAB-549F-4FAF-901F-6C07F855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B512-D31D-4C5A-897A-C018B689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8AD-D82A-45DA-B662-765D71D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DC56-A3D5-4AEB-9E12-CA6DAE90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AE972-5C29-4E2B-B13A-25B563B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6244-BBD0-4951-BD3C-088ACADF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AA279-59B5-436F-8F20-5A7AA1C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F404-68D5-4802-955D-6A68389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BEC0-21DD-478D-996C-F5428BF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D4CD5-1C91-4829-8270-38DB7B5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B66F-B9F7-4A39-9032-F5B035A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3AAF-4A98-401E-AF06-9C310333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65DF3-F1A5-4433-B0B8-C38F36CE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6F0-1F3B-41DB-9871-84B5C482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7704-654A-4F6B-B865-436ACDD5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03D7-C0DE-4707-B301-1B22316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38B5-E249-42E1-B1A1-0CBE91B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22E4-284E-4F0C-A997-829F1A3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93DF-8C8A-4711-A392-BF2EAFD2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FA50-63BF-4BF9-A4C4-D8B1364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0E84-B058-45E7-8CA1-F5E9E8F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7ED9-46F8-47C3-8E37-76FFA16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A42C2-961D-4DD8-8229-8BD096D4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8C30-DDAE-4FA3-B965-B63CF7A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509-7A74-4D63-BCA6-4DF76B7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8482-FC88-43F7-9A28-CDF6EA8C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FFA3-D030-4F5F-8372-E2AE7E71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8C4F-59EA-4E6E-B8DA-8649D303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DEEB-FDDD-4A09-968F-89A0C118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CB19-4C5C-430F-AA85-E7D3CBA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E4B7-824D-4C5F-8D74-5307F66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F796-45B9-4063-877E-440E6E48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6A2F-9356-40A9-81B7-EA400F96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2AFB-F736-4C47-9D8D-BDC83F9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266D7-4D30-4A74-AAEF-194D6ED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3F0-4E3C-4013-A6E6-C210795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2EE6-1F96-4165-8329-83D5E80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1240-985F-46FD-848C-0B29B53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2D5E-BEF5-4045-A64C-A8F0A1E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7220-1C48-463D-9483-425C964A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000A-3F04-4D09-A431-947828AC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23D5F-DF36-4896-8FF2-E1A46975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D8516-FF3F-4BE1-B130-BEBF7DB7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5D1BF-74A4-4A4E-94C1-A156715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E2092-C303-4DF1-BD05-400DB0BC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BE727-88AD-48A6-A338-EBF40C7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FDA-5520-4E49-A80D-74124A8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E408-3F22-418B-9997-F804523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5547-9512-410C-B644-C78AFF6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97848-7C19-4D86-B065-CE218B8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764FF-17BC-48C7-A00A-3BDF725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D45A-D65B-4FA2-8E9F-6E59B31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B3C3F-14CA-4AB3-8CC7-2503E988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4364-9847-4BEE-BDC1-BAB387E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20377-5FC2-434C-978D-CFC7C5E4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75AC-DDE8-41AF-8B3B-3B959169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0885-7CF3-43CF-B3D9-B08BE74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7B40-BE0E-4B15-87E1-EF09DB60A2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17F-D642-4DCE-A142-CFD37E4994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A81C-3BB6-445D-8B15-EC509F3232D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6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AEDD-9A6E-4AB9-BE31-248EF97C9FD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0BA-B039-4783-A6CD-AFDE2EC542B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89A-ACBE-4917-A697-E6F37346B6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39EC-F083-4892-ABD2-57677F5A9B7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4D88-75E8-40D5-AD2D-3FF0FDE5DB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FFC-8CA0-4641-B67E-A443793230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B633-8EED-48F3-84A1-AC48CF1B052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4B1-F11B-4B9D-B6EB-1084CE8638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F7B-61F5-4EA0-81B2-D398E153EF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81A-0057-4FAA-827E-88F084F32AE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921-CD1B-4918-808B-A8C6C266C5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DFE4-103E-439F-97B5-BB607E5DEFC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E6A-B3DB-43E2-9074-5485904257D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60C-5D03-4076-BCF8-50D64E564A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6AA-0E45-4A7C-971A-529DEEF0C78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FFE-5522-48B6-B6E9-6057345073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B6E-C36C-4BB1-87DD-017B1A407E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C7C2-7139-4189-9263-86CB54E246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D93-7C55-40C7-993D-7D2343454F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masu vag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927" name="TextBox 4"/>
          <p:cNvSpPr/>
          <p:nvPr/>
        </p:nvSpPr>
        <p:spPr>
          <a:xfrm>
            <a:off x="609480" y="1828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vaga i kako se njome služ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2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960640" cy="3257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3"/>
          <a:stretch/>
        </p:blipFill>
        <p:spPr>
          <a:xfrm>
            <a:off x="304920" y="274320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vaga"/>
          <p:cNvPicPr/>
          <p:nvPr/>
        </p:nvPicPr>
        <p:blipFill>
          <a:blip r:embed="rId4"/>
          <a:stretch/>
        </p:blipFill>
        <p:spPr>
          <a:xfrm>
            <a:off x="685800" y="4267080"/>
            <a:ext cx="2560680" cy="2011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7" descr="vaga2"/>
          <p:cNvPicPr/>
          <p:nvPr/>
        </p:nvPicPr>
        <p:blipFill>
          <a:blip r:embed="rId5"/>
          <a:stretch/>
        </p:blipFill>
        <p:spPr>
          <a:xfrm>
            <a:off x="7086600" y="4165560"/>
            <a:ext cx="153684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698040"/>
            <a:ext cx="822960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Vaga – mjerilo za m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95280" y="1371240"/>
            <a:ext cx="64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e tijela uspoređujemo vag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Picture 3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657600" cy="1917720"/>
          </a:xfrm>
          <a:prstGeom prst="rect">
            <a:avLst/>
          </a:prstGeom>
          <a:ln w="0">
            <a:noFill/>
          </a:ln>
        </p:spPr>
      </p:pic>
      <p:sp>
        <p:nvSpPr>
          <p:cNvPr id="935" name="TextBox 4"/>
          <p:cNvSpPr/>
          <p:nvPr/>
        </p:nvSpPr>
        <p:spPr>
          <a:xfrm>
            <a:off x="1468080" y="4952880"/>
            <a:ext cx="629352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ko je vaga u ravnoteži, masa tijela na jedn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litici jednaka je masi tijela na drugoj pli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a – zna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jedinica mase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l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znak k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68000" y="2438280"/>
            <a:ext cx="821844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nje jedin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e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kagram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ag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;  1 kg = 100 d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am      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  ;  1 kg = 1 000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iligram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;  1 g = 1 000 m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dinic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e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na        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   ; 1 t = 1000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4"/>
          <p:cNvSpPr/>
          <p:nvPr/>
        </p:nvSpPr>
        <p:spPr>
          <a:xfrm>
            <a:off x="304920" y="1523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mase tijela s pomoću poznate mase ut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762120" y="5029200"/>
            <a:ext cx="769608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iti masu nekog tijela znači usporediti masu tog tijela s poznatom masom ut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257200" cy="2609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"/>
          <p:cNvSpPr/>
          <p:nvPr/>
        </p:nvSpPr>
        <p:spPr>
          <a:xfrm>
            <a:off x="4205880" y="2514600"/>
            <a:ext cx="35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00 g + 50 g + 10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Slika 6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304920" y="1523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nja li se masa promjenom oblika tij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762120" y="4876920"/>
            <a:ext cx="769608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 promjenama oblika tijela ukupna masa ostaje jednaka. To je zakon očuvanja m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429680" cy="1876680"/>
          </a:xfrm>
          <a:prstGeom prst="rect">
            <a:avLst/>
          </a:prstGeom>
          <a:ln w="0">
            <a:noFill/>
          </a:ln>
        </p:spPr>
      </p:pic>
      <p:pic>
        <p:nvPicPr>
          <p:cNvPr id="946" name="Slika 5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3"/>
          <p:cNvSpPr/>
          <p:nvPr/>
        </p:nvSpPr>
        <p:spPr>
          <a:xfrm>
            <a:off x="-37080" y="1447920"/>
            <a:ext cx="8340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slovom označujemo masu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dinica za mas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mas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znači mjeriti masu vago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 miješanju brašna i vode dobiva se tijesto. Je li m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ijesta jednaka zbroju masa brašna i vo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4:26Z</dcterms:modified>
  <cp:revision>52</cp:revision>
  <dc:subject/>
  <dc:title>Slide 1</dc:title>
</cp:coreProperties>
</file>